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A3F-180A-42B8-AC96-7A7E38CC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AF4-D26B-4377-8853-CC42DF5E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421-92C4-4AF1-A0D2-7A2F09E3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3CD-3210-4DE2-B991-39868209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343-2E59-4B6E-803E-0902A61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7DB-6C12-4639-984B-D7561F9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3D0-ECD6-459D-9154-24303CD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529-CD05-41CF-96E9-B9DC4DB4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D5D-A39E-4BB1-AF4F-5A4DAC68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353-5F6B-47FF-A88E-34C9902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A13-4598-4392-AFC1-D89FF5C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F55-89BF-44E0-8AB6-D0491F7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969-BC79-4576-99C2-B2AA809C61A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272200" y="189000"/>
            <a:ext cx="3871800" cy="537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21964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ör ett bättre liv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Här arbetar vi för att förebygga fall, tryckskador och undernäring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om en hjälp i detta arbete är vi anslutna till kvalitetsregistret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enior alert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för att följa och utveckla kvaliteten på vårde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ill du ha m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akta personal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300720" y="5668920"/>
            <a:ext cx="2160720" cy="80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RFO_rgb_6cm"/>
          <p:cNvPicPr/>
          <p:nvPr/>
        </p:nvPicPr>
        <p:blipFill>
          <a:blip r:embed="rId3"/>
          <a:stretch/>
        </p:blipFill>
        <p:spPr>
          <a:xfrm>
            <a:off x="2556000" y="5902200"/>
            <a:ext cx="21715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128000" y="5373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Bildkälla: Landstinget Gävleb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9:40:50Z</dcterms:created>
  <dc:creator>mageh</dc:creator>
  <dc:description/>
  <dc:language>en-US</dc:language>
  <cp:lastModifiedBy>ankar</cp:lastModifiedBy>
  <dcterms:modified xsi:type="dcterms:W3CDTF">2014-04-14T12:44:52Z</dcterms:modified>
  <cp:revision>7</cp:revision>
  <dc:subject/>
  <dc:title>Bild 1</dc:title>
</cp:coreProperties>
</file>