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CE46-3094-4BBE-B8D6-C99715D8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342-D0A1-4C06-978A-A2F61B75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B96-7C54-4BA3-8771-84B94138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4B9-F7BC-44B9-82E0-06CAC73C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FDD-4CF2-4AFD-B02B-43ED82CA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1E5-4D86-4C51-A31A-4CCCEDB8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D51A-4DDA-4A37-B023-60D00A62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D075-1E73-47C4-8C3D-39841AA7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956C-E6E4-4A2A-A9D8-EAD4B4F2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6D12-3E29-46CF-B230-83F1CD1C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8EAC-B58A-4B51-A162-A7DB98AD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D182-EC73-4D0C-8AC6-6293903B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D7EA-FE28-419E-BDDA-00D84F8BCC3B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5272200" y="189000"/>
            <a:ext cx="3871800" cy="5373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521964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För ett bättre liv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51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Här arbetar vi för att förebygga fall, tryckskador och undernäring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om en hjälp i detta arbete är vi anslutna till kvalitetsregistret</a:t>
            </a:r>
            <a:br>
              <a:rPr sz="2400"/>
            </a:b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enior alert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för att följa och utveckla kvaliteten på vårde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Vill du ha m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kontakta personal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6300720" y="5668920"/>
            <a:ext cx="2160720" cy="808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RFO_rgb_6cm"/>
          <p:cNvPicPr/>
          <p:nvPr/>
        </p:nvPicPr>
        <p:blipFill>
          <a:blip r:embed="rId3"/>
          <a:stretch/>
        </p:blipFill>
        <p:spPr>
          <a:xfrm>
            <a:off x="2556000" y="5902200"/>
            <a:ext cx="2171520" cy="561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7128000" y="537372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v-SE" sz="800" spc="-1" strike="noStrike">
                <a:solidFill>
                  <a:srgbClr val="000000"/>
                </a:solidFill>
                <a:latin typeface="Arial"/>
              </a:rPr>
              <a:t>Bildkälla: Landstinget Gävleb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9:40:50Z</dcterms:created>
  <dc:creator>mageh</dc:creator>
  <dc:description/>
  <dc:language>en-US</dc:language>
  <cp:lastModifiedBy>ankar</cp:lastModifiedBy>
  <dcterms:modified xsi:type="dcterms:W3CDTF">2014-04-14T12:44:52Z</dcterms:modified>
  <cp:revision>7</cp:revision>
  <dc:subject/>
  <dc:title>Bild 1</dc:title>
</cp:coreProperties>
</file>